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D4A-635C-432E-8342-BA0171B2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42A-85BF-4514-94E3-05451BB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90E-A534-47FA-8391-E6D30DCD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1C3-016C-4F4A-80F9-54C1749A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EED-3009-401F-BB25-CF1DE65E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761-C4E3-4C70-9509-5F1D6F6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59A-276D-4A5E-AED1-CF302DF5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B0B-E428-4E6E-935D-3F7B1BF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C41-06E9-46B5-AA2D-F6A9EE57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B06-7B7A-4BAA-8F88-686E67A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13B-8437-4221-A3F0-EB050B5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DA4-838D-4EFF-8C4D-558DDF0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E5F-3129-40DD-A394-42D726F9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âmara Técnica de Integração de Procedimentos, Ações de Outorga e Ações Reguladoras</a:t>
            </a:r>
            <a:br>
              <a:rPr sz="2000"/>
            </a:br>
            <a:br>
              <a:rPr sz="4100"/>
            </a:br>
            <a:br>
              <a:rPr sz="4100"/>
            </a:br>
            <a:r>
              <a:rPr b="1" lang="pt-BR" sz="3800" spc="-1" strike="noStrike">
                <a:solidFill>
                  <a:srgbClr val="333399"/>
                </a:solidFill>
                <a:latin typeface="Arial"/>
              </a:rPr>
              <a:t>OFICINA</a:t>
            </a:r>
            <a:br>
              <a:rPr sz="3800"/>
            </a:b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A Gestão de Recursos Hídricos em Corpos de Água Intermitentes</a:t>
            </a:r>
            <a:br>
              <a:rPr sz="3200"/>
            </a:br>
            <a:br>
              <a:rPr sz="3700"/>
            </a:br>
            <a:br>
              <a:rPr sz="3700"/>
            </a:br>
            <a:r>
              <a:rPr b="1" lang="pt-BR" sz="2500" spc="-1" strike="noStrike">
                <a:solidFill>
                  <a:srgbClr val="333399"/>
                </a:solidFill>
                <a:latin typeface="Arial"/>
              </a:rPr>
              <a:t>Brasília, 25 e 26 de maio de 2010</a:t>
            </a:r>
            <a:br>
              <a:rPr sz="2500"/>
            </a:br>
            <a:br>
              <a:rPr sz="37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01fb01cafb83$9ed95050$9c1011ac@EST4169"/>
          <p:cNvPicPr/>
          <p:nvPr/>
        </p:nvPicPr>
        <p:blipFill>
          <a:blip r:embed="rId1"/>
          <a:stretch/>
        </p:blipFill>
        <p:spPr>
          <a:xfrm>
            <a:off x="3200400" y="380880"/>
            <a:ext cx="32767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7:02:27Z</dcterms:created>
  <dc:creator>srhu</dc:creator>
  <dc:description/>
  <dc:language>en-US</dc:language>
  <cp:lastModifiedBy>srhu</cp:lastModifiedBy>
  <dcterms:modified xsi:type="dcterms:W3CDTF">2010-04-25T17:46:09Z</dcterms:modified>
  <cp:revision>2</cp:revision>
  <dc:subject/>
  <dc:title>Câmara Técnica de Integração de Procedimentos, Ações de Outorga e Ações Reguladoras   </dc:title>
</cp:coreProperties>
</file>